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557-052D-4DAA-A300-3A0AA120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E44-41C7-4474-AA48-6226A4E5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31066-779A-4EA4-94D6-7C83D2A3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AEE2-2469-4410-A7D8-2DD09158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62AFA-0790-4B52-A960-B21D75FA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7AAD6-DD5E-48C0-B90B-18C4FA2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8153F-A6A4-4C6D-BD96-42221FD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79A9B-0D0A-4C2E-A93F-8324740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C9AD7-96B6-47AA-BDA6-A01B0EC7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07F36-2BE5-45E2-AE21-6F38FF35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4EF8C-9D4D-40AF-805E-D64795F5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BE0E4-E707-4D67-8903-8704B065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C2B-C785-4A96-9311-15EA8A6F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EF7D-1F4B-42DD-84DF-DBAEA133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3A087-D263-4405-94C0-1DEFBCEC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8B2E9-2963-4F01-87BE-011F5D2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697E3-DC91-45A4-BA0D-D323F852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C1B30-267D-437F-89EC-7931307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839E6-1808-4179-9681-EA189E69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A2EF6-2E5E-4411-AAF2-7CCB3E1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3548D-9AB0-4DAD-BCC3-563105C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F8D3E-8C42-474F-93C1-CDE8CDA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2910E-331C-4B36-ADD0-324A5EC5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0B0-14EA-4F9F-B5A1-7DF3AC44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F0890-2E3E-4035-88FE-567C7F55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E5DC6-EE96-4CB1-BFB1-9682E899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C34C-C0C9-4C08-8E96-DD9AEE4B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98EB1-BF35-4CA2-BC42-88756CE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3C4DE-C5DE-4BAE-B489-CB9D975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2EC82-2DCF-443A-8CF9-7FBDAC2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BAFCF-A236-4E70-B111-FE6FD531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665C0-8D9F-48C6-8981-D0E305D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CCF0-2ED1-4AA2-BD6F-736442CA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1C335-44BB-43A2-B859-73663F9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5492-AE23-488A-B297-F6CC383F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3456-C229-430D-B6C5-F480B27B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4397-C63F-418C-A142-DD8E366B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FD01-7729-4E96-959E-085FC216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F6D7B-6C61-403D-B25B-D441FA9F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0321E-103A-4F62-B53C-301CBF13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DE00F-2020-4243-B6DC-8CAC0591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B7C98-E5C5-4221-B689-24F9308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A58B5-2E85-4F53-8FCA-C5AF0D91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C848E-4D68-4F57-87E4-1E8D2FD8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733C7-0229-45FF-8FDA-A7679B85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391B-D9E8-4D7D-86A8-E9098324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3AF6E-80CB-4FF5-BF05-E4923F6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567AE-EF0F-48BB-9874-06CD694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9FACD-842E-4D5A-99E3-2C106A6E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6F9A1-91AE-448D-B566-356D3882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48CDB-B83B-4609-BAA1-584702D9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764-2478-4AB4-A27A-17647C28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7A27-373E-4683-BE36-4E3BF0F6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23DB-6C9D-4E16-8C8F-0F29E83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6BAB-689E-42F9-B3B7-4396A37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C97-80C0-4DAF-8DEF-C6956EA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BB3-69DD-474F-9F3D-BF43C298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BC56-11F9-4383-B221-8C1A132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F77-B40F-403F-9469-CFCA607E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67B0-2CED-4931-8760-CFD0CAE3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B0D-4E2D-45F2-B14E-16EDF72C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6F5-916B-499C-A016-B21C8358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BF50-BA22-4F59-9C6A-BB3939CD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9B33-556E-4FA1-ADBB-A360E3B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8CA8-53D2-4CC8-99DC-227578A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C287-2DBE-474F-8AE3-517CC5D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8580-626E-4D6A-80FC-974BD302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7F5-B950-47A2-9EC0-7E186046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06EA-9923-4B45-A22C-97BE51E5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6767-CCDB-41B8-95E3-9F3BCAB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A97E-4BFE-4D9E-B58C-3958BAD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DBD0-DFC5-43C3-992B-A2B3855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8EEF-1798-4D6C-AAEA-3764D72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7E2B-C9DC-411A-B4BC-D5F77DC4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6ACB-A4CA-474A-80DF-76F0B2CD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772A-A56A-444A-9BAB-A765644C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B97A-7554-48C4-9D41-FA3CD33C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3207-CD0B-4E31-B49E-402B5D93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E4D-8BD4-47AA-9FBF-14989F73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C8EC-B90E-4B00-A8CA-E179A90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EBC0-16C0-47E3-8216-3FE3C574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30AB-1396-47B9-8F7E-46CE6D6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1CA3-20F1-459A-B94C-E7B17C0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81A2-285C-4B16-BEAD-5FC18EC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7854-2070-4C17-BBEB-1A8B101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C175-597F-49B0-8864-29AB97B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8EDB8-35BC-48AE-BCC6-04C79EEF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79CB-DA70-444D-A1D0-3EECCAEA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D4BA-6143-411F-9E5D-FBCE23A3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131-246B-45F5-809D-884D823D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0C2E-005C-4B87-B880-47397704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6D89-4047-425B-8F38-3DEDFEAA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7E6E7-F0BD-425B-A4D8-E6B9942E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A2C5-AF25-4D14-ADE1-0CDB150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AFA1-AFC0-45B8-844C-91980EB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D747-EE15-4FFD-8D80-BF15AC6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12B12-9C5B-4D98-9605-AE5B8D3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BE43-3299-410A-9F82-D739592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4BFE-46E3-40ED-9F0E-767A019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42095-9F35-4312-8168-6C39EA65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2DE-83EF-4CCF-A084-6A5E2155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955F3-B492-4459-879E-01505606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3329-9D54-4273-B337-B8785B83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1CC3-BBB2-470C-A8C4-C17761A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72A6-634F-4CF8-A5B2-651D98CF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9809-5FFC-4873-A7A8-62FB8B55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BD15-80E8-4D3C-A4CA-287FF982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73580-658A-4752-9D5A-292CC50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57D4-F124-4A4B-B335-CBCB4197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6F65-6A73-4016-9C88-F583B9D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5253-3E38-43A3-AD03-610B759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44F-C47A-4F5E-8653-CC329197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144C-10AF-4C36-8AF2-4E60DBA7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68DDE-90EE-4C41-9D5C-E66A1D70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DF663-152B-40FF-89FA-F86A0B43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DE3E-ECF8-48D9-B5B8-7A8010CE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A630-4A4B-4EE7-A8BB-C0D61E84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F7D99-F3A7-46F9-90C5-0D19C039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B8DD4-9EB3-4DF9-A148-CC9EF495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8852-66E2-4E06-B762-2575EF1A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2884-1762-4FD8-A474-5394B56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2979-2B15-4C69-8FFA-D5FD4CD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1F8-9E02-4D41-9AEE-54881CF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8C96B-62BF-4B39-9DCF-33073D7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3E1B-CBDE-457A-8503-0432A2E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EF28-D55A-45D7-8C7E-EC5D08D0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8627-9F41-4B65-8C87-7A7835AE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9118-9D0A-4561-B89E-42BB4C0E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FB13-8DB0-4338-9A7C-AFF0CA84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C771A-596E-418A-A182-9A60CB2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A574-55B3-4958-A81C-E00137A1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1EAB-639B-4D0D-AB70-D4F7492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BC7C0-60C3-429D-9AB1-74C69CA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FBC-BDC8-4C76-848F-7F231E96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DA2E-EED3-4448-B6B8-52D2DBC0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D4D0F-97B9-4CFF-A1C7-46DD7A0B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BC01-3B39-4811-B22A-5A4BF11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C5DA4-25D8-421B-AD5E-784A9F5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A0FA0-40D4-497B-9284-01F3C87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10C7-C8F3-41EB-8488-E3C9CCB2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0513-8FC4-4AFC-98D1-BE88711F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418B-D5C1-43DD-AD9F-EB5F5332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1A6C-AFF6-4145-8361-06C8887D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5C7CD-4BAF-4112-A24C-FC3C00B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DB0-FFD7-4F20-8D4E-678349B114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A54-62F6-434B-BB06-E290B74238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9147-7C87-4088-97D1-88D6508980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A6B8-77E5-447F-8F55-A26D372014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329E-F7FA-454A-AA64-E88A3E1B6A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6500-3906-4788-8AB2-BBA37B2139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BE3-46C4-48FC-9D27-FE5353F67D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3BD-AD63-42E5-9DD0-5AA9A7D252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124-25F3-43B9-ADB1-002B96A80A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43E-405D-4946-B046-48279E0991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AA4-8BE4-4406-B1F8-7E076843E7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4FB-1441-4D01-B6F7-58806A0B9E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4 Haleluja! Krásne rá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aleluja! Krásne rán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 blaho, pokoj mám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delený deň j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án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rý posvätil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ho Tvorcu veleb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počinku deň si ct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ypočuj nás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ho Ducha zošli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dnes nebies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bohatí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Láskou svojou skloň sa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našich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prav si chrá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uhov svojho Slova 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o tebe šíria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kým všade dopomáh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ížnych k zdroju spásy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modlitbám sa prizná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šmu spevu sluchu praj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sŕdc vsiate dobré semä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štep, zvlažuj, vzrast mu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etci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zna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íšu tvoju, nový r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nám tvojej lásky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á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tvoju tvár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8:05:21Z</dcterms:modified>
  <cp:revision>23</cp:revision>
  <dc:subject/>
  <dc:title>Je veľký náš Pán, on slávy je Kráľ Nech do všetkých strán  spev vrúcnych znie chvál.</dc:title>
</cp:coreProperties>
</file>